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211-12A6-4E1D-96B6-8E966833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496-C6AA-4889-912E-885EFF31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A24-3D04-4EAF-9EA7-A04A5BF1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CB1-8F98-4EEF-B5DD-CA285428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9A6-365A-43B7-BFC2-39C6BBC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3EE-4F8E-4927-AC31-6B2F91FB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44B-091C-4ABC-8C18-E1FB11D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948-17AD-4843-8651-3B9272D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998-9D5B-463D-9879-5C9172AA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0D8-7AF7-4E06-8734-C1117CD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8BC-5A43-4CC4-BE12-DA5EC18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256-76C1-477C-A61B-E58C220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3C9C-253C-4115-BE73-D01ED4F70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OLU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61722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5114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bones in the diagrams below are example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800" y="175248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08960" y="62485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uralist who gave Darwin incentiv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blish his ideas about evolu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ing an essay that described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47840" y="213372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480" y="3276720"/>
            <a:ext cx="86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rench naturalist who hypothes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organisms acquire traits du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ir lifetime through use or dis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ch can be passed on to off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715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 geologists who recognized that Earth is many millions of years old and that processes that changed it still operat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0520" y="2286000"/>
            <a:ext cx="75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ames Hutton &amp; Charles Ly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352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lish economist who reasoned that if the human population kept growing unchecked, there would be insufficient food and space f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019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2578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rst theory about evolu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rganisms do change and adapt to thei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080" y="1789200"/>
            <a:ext cx="871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enes determine which traits are passed 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unless genes are changed the acquired tra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nly show in the original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3 kinds of evidence that supports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68040" y="1925640"/>
            <a:ext cx="766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eograph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mbryology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tificia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n see natural selection work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antibiotic resistance, new dis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idea that all species, living and extinct, were derived from a common ance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1000" y="236232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240" y="3643200"/>
            <a:ext cx="828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tural selection is the same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suring lima beans and finding beans come in different sizes is an examp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960" y="1981080"/>
            <a:ext cx="45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3643200"/>
            <a:ext cx="83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ractice of breeding dogs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duce offspring with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aits is an exampl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human’s appendix and a skink’s legs are examples of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0720" y="190512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estigial org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520" y="3276720"/>
            <a:ext cx="567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plain these giraff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257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y grew longer with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629400" y="281952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se giraffes with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opulations naturally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dividuals with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zes of 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(natural vari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ones with longer n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re better able to get food, survive, and pass on their longer neck ge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64636" b="0"/>
          <a:stretch/>
        </p:blipFill>
        <p:spPr>
          <a:xfrm>
            <a:off x="6781680" y="1600200"/>
            <a:ext cx="218772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Darwin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Longer necked giraffes can better compete for food and survive to reproduce, passing on their long necked ge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a population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3840" y="1461960"/>
            <a:ext cx="259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760" y="364320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ces among individu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in a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2860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Lamarck explain the evolution of this giraffe population towards longer n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2096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long-necked trait acquired by stretching can be passed onto offspring and those organisms will be better able to surv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1600" y="632448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733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iagrams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ight show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natural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common d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artifici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8360" y="152388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mon d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3139920" cy="2548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2160" y="-720"/>
            <a:ext cx="39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www.angelfire.com/ab7/evolution12/evolutionclue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cording to this diagram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have a vestigial p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femur. What does this sug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out ancestors of modern wh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9923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ncestors of modern whales had leg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alked o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3943440" cy="320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67800" y="6643800"/>
            <a:ext cx="469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Image from BIOLOGY by Miller and Levine; Prentice Hall Publishing ©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daptations in species of finches that Darwin observed on the Gal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gos Island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fferent shaped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21600" y="15238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ea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7520" y="3400560"/>
            <a:ext cx="79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 did Darwin firs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ublish his ideas about ev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800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 findings challenged fundamental scientific beliefs at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ossible explanation for a set of observations or a possible answer to a scientific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e in the DNA sequence of 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 due to mistake is replication or damage from radiation or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23280" y="243828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20480" y="57261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sharks are not closely related, but have evolved to have similar body shapes and fins because they live in similar environments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9760" y="29718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 one piece of evidence that suggests human chromosome #2 evolved by joining 2 smaller ancestor chrom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080" y="271476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nding pattern ma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telomeres in the midd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at the 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t has an extra inactive centro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instead of just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les and wolves share a common ancestor, but have evolved to look very different. This is an example of _____________ ev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76560" y="18288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iver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560" y="3400560"/>
            <a:ext cx="87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 we call genes that ha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st their function due to mutatio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seudo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homologou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120" y="1571760"/>
            <a:ext cx="85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uman arm, bird wing, whale f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520" y="340056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 pseudogene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arned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itamin C gene in primates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enes for “smell” in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519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uctures that develop from the same embryonic tissues, but have different mature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6520" y="21337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6960" y="3643200"/>
            <a:ext cx="81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 with little or no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stigial 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well supported, testable explanation of phenomena that have occurred in the natural world i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led 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me the ship that Darwin spent 5 years on traveling around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4400" y="274320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.M.S. B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the idea that forces have been changing the Earth and have been at work for millions of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480" y="2590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ames H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960" y="34005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of “Inheritanc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quired Traits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idea that forces which have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nging the Earth are still a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2200" y="236232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rles Ly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3960" y="3400560"/>
            <a:ext cx="882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realized that human pop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re increasing and said eventuall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would not be enough foo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pace for every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7913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omas Malt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is the scientist that pro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dea about evolutio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mpted Darwin to publish his the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6640" y="23623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lfred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1800" y="34005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r, feathers, beaks, antlers, &amp; c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all examples of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3886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lions prey on a herd of antelope, some antelope are killed and some escape. Which part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theory of evolution might be used to describe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51680" y="2286000"/>
            <a:ext cx="51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8640" y="3352680"/>
            <a:ext cx="824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aptations can be which of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sical     behavioral    ge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hysical or behavi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in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840" y="3678120"/>
            <a:ext cx="87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what was correct about Lamarck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562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LIVING THINGS CHANGE OVER TIME TO BEST FIT THEIR ENVIRONMENTS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0680" y="1981080"/>
            <a:ext cx="70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TRAITS ARE DETERMINED BY GENES; </a:t>
            </a:r>
            <a:br>
              <a:rPr sz="2800"/>
            </a:b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ACQUIRED TRAITS ARE NOT PAS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divergent evolu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arwin called “survival of the fitte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other name for “struggle for existance” is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0360" y="68580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ive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3276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15040" y="50403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ll the places he visited, the ______________ Islands influenced Darwin’s ideas abou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tion the most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91400" y="7621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5000" y="2971800"/>
            <a:ext cx="93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addition to observing liv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sms, Darwin studie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served remains of ancient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lled 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the Galápagos Islands, Darwin observed that the characteristics of many animals and 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. all looked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. were completely un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. were acquired through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. varied from island to is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5520" y="3962520"/>
            <a:ext cx="70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 Varied from island to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rwin’s concept of evolution was influenced by all of the follow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the work of Charles Lyell and James H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his collection of specimen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his knowledge of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. his voyage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althus’s ideas about population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4114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 Darwin didn’t know about D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bility of an organism to survive and reproduce in a specific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1720" y="26668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00" y="3643200"/>
            <a:ext cx="875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herited characteristic 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creases and organism’s ch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surv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these statements about the struc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uman chromosome #2 provide evidenc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olu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_______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Its banding pattern matches the pattern seen on two smaller chimp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. It has telomeres in the center, as well as at the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It carries a functional gene for making vitam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. It has an extra non-functional centrom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2480" y="5562720"/>
            <a:ext cx="88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. Humans have a nonfunctional vitamin C making g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its not on chromosom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 summary of Darwin’s 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5400" y="1371600"/>
            <a:ext cx="72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Comic Sans MS"/>
              </a:rPr>
              <a:t>Natural variation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in population provides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for natural selection to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verproduction of offspring force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mpetition for resources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struggle for survi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7520" y="3429000"/>
            <a:ext cx="87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rganisms best suited to their environment will surv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and reproduce; Other organisms die or leave fe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Offspring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</a:rPr>
              <a:t>survival of the fittest/natural selection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00" y="4724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pecies alive today hav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omic Sans MS"/>
              </a:rPr>
              <a:t>descended with modification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    from ancestral species that lived in the distant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6520" y="563868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All organisms are united into a single “tree of life”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Comic Sans MS"/>
              </a:rPr>
              <a:t>    (common desc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END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4799880"/>
            <a:ext cx="68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OLUTION IS STILL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served remains of an an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9800" y="160020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ss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280" y="3429000"/>
            <a:ext cx="911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 that Darwin visited on 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yage on the Beagle tha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im thinking about how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ange ov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5943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ala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ept that each living species has descended with changes from other species ove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0800000">
            <a:off x="990360" y="2818440"/>
            <a:ext cx="701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scent with Mod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80" y="4114800"/>
            <a:ext cx="860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ea that organisms that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t suited to their environmen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survive and repro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urvival of the Fit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98108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Webbed feet, horns, antl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aws, feathers, wings, camoufl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. . . . there are a million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4160" y="3809880"/>
            <a:ext cx="62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VE AN EXAMPLE OF 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HAVIOR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cturnal (coming out at n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lying south for the winter, living in 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gon train” defense; burrowing; hibe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humans select and breed animals with certain useful traits from the natural variation in the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4040" y="266688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20" y="3657600"/>
            <a:ext cx="85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cess by which unrela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ganisms independently evol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ities when adapting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imilar 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60199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nvergent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ok published by Charles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which he proposed a mechan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provided evidence for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ory of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6760" y="2438280"/>
            <a:ext cx="67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n the Origin of Spec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352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cess by which related organisms evolve differences when they are isolated in different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181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vergent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riedellke</cp:lastModifiedBy>
  <dcterms:modified xsi:type="dcterms:W3CDTF">2009-04-30T12:39:17Z</dcterms:modified>
  <cp:revision>21</cp:revision>
  <dc:subject/>
  <dc:title>NAME OF GAME</dc:title>
</cp:coreProperties>
</file>